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34B8-0C90-4F75-A92F-359407DE4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F1C4-8453-4D61-B9D4-115AA719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6BB5-7A05-4121-AD0B-32A6A8DEE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3FAA-9D16-44B4-8D33-452E02B74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1F7C-A5B2-425B-9B60-CEB6D8E5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3BE0-B742-4E52-A29D-60C9BC45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5B0A-D53F-4E9D-A92E-89E2D1A7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EAA9-0805-465F-9308-5199F04C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ED01-4118-46A8-9D1C-92E8FE4B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B66D-E8E0-49CB-ADFB-F28BA8BB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73F3-2BFD-4001-B96D-5B5CC64A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842B-E38E-4A72-98A2-38BF69BB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60BA-0FE7-472A-8D14-5D2516915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28600"/>
            <a:ext cx="4343400" cy="9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هُوذا قَدْ صارَ لَيْلٌ           مُظلِمٌ نِصْفَ النَّهارْ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والصُّخورُ الصُّمُ شُقَّتْ       فلِماذا ذاكَ صارْ؟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ذاقَ ربُ المجدِ مَوتاً         بعدَ صلبٍ واحتقارْ</a:t>
            </a:r>
            <a:r>
              <a:rPr b="0" lang="ar-SA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038480" y="0"/>
            <a:ext cx="5351760" cy="7391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28600"/>
            <a:ext cx="3962520" cy="115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أُنظروا كيفََ يَداهُ            سُمِّرَتْ فوقَ الخَشَبْ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ولهُ إكليلُ شَوكٍ              نابَ عنْ تاجِ الذَّهبْ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آهِ ما أَقسى عُداةً            صَنَعَتْ هذا العَجَبْ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3581280" cy="117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أُنظروا كيفَ دِماهُ           قطَرَتْ مِنْ جَنبِهِ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واسمعوا صوتَ أَنينٍ           صاعدٍ منْ قلبِهِ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يا تُرى ذاكَ لماذا            هلْ لَكُمْ عِلمٌ بِهِ؟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81600" y="0"/>
            <a:ext cx="51624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3657600" cy="9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بِالخطايا قدْ وُلِدنا            مُسْتَحقِّينَ الغَضَبْ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فأتانا وَفدانا                 مِنْ عَذابٍ في اللّهب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يا أُلي الآثامِ أَصغُوا          وَاعرِفُوا هذا السَّبَبْ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4514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228600"/>
            <a:ext cx="4343400" cy="11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ِرفعوا الأَيْدي وَصَلُّوا        واشْكُرُوا ربَّ الفِدَ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اطلُبُوا عَفواً وَظَلّوا         قائِلينَ سُجّد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قَدْ قَبِلْتَ المَوتَ طَوعاً        مُنِْقذاً أَهلَ الرَّد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09:37:01Z</dcterms:created>
  <dc:creator>SUZANNE.MD</dc:creator>
  <dc:description/>
  <dc:language>en-US</dc:language>
  <cp:lastModifiedBy>HANI SAFI</cp:lastModifiedBy>
  <dcterms:modified xsi:type="dcterms:W3CDTF">2003-04-17T11:11:47Z</dcterms:modified>
  <cp:revision>2</cp:revision>
  <dc:subject/>
  <dc:title>PowerPoint Presentation</dc:title>
</cp:coreProperties>
</file>